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991D-09C5-43B1-965A-6987F33C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50B-D635-409C-BAA0-B0732D03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B4C5-9FF3-498F-944A-8E4B74E3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F7B-5859-434C-963F-BB196C69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CEF7-653B-4BC8-A573-BB50E5E2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9F59-C66E-4EEE-BE2E-8CFAD1AC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ED6C-F4E9-4C81-909C-182A67F0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01ED-1C6F-431B-B623-79B6881B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5876-1EE3-4A9B-A247-8F16B548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FF6E-4AA6-4EE7-BC7A-5A0375DD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C486-252C-497A-949D-DC56AF45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AF7-ACA4-473C-8338-53F7C8D0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17DD-6FDB-40B7-8486-1F268B09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FAD5-B35B-4BD5-A093-6A8B58D1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47D0-40A5-4AE6-98FB-9E5CC5E5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4DE1-3A08-4048-809E-041C9693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9ED5-A4B2-41C0-8F3D-99433B0A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1C1B-376B-4731-B32E-33A880CA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269-D2EF-4A71-881B-4D664FAC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55A-4801-4253-A730-0B5CDF40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DF8-5511-45A8-99CE-0CEDBAC8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BBDA-1B42-4281-9409-3DCEC70A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3620-BFF6-4D34-9181-C42DC9F6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4B54-C108-405B-BB82-78B9CFB7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7CD2-F9CF-4265-A837-451837EFCF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SYMET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0942-1797-4D7A-B9DC-8C1FF9CD65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27000" y="234936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KONSTRUKCJA SYMETRALNEJ ODCIN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YMETRALNA ODCIN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06640" y="126720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any je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dcinek AB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 Do konstrukcji symetralnej będzie potrzebny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yrkiel i linijk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rot="2511600">
            <a:off x="5157360" y="2484360"/>
            <a:ext cx="2114640" cy="23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3446640" y="5273640"/>
          <a:ext cx="3036600" cy="31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46640" y="5273640"/>
                    <a:ext cx="30366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92360" y="2595600"/>
            <a:ext cx="20700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YMETRALNA ODCIN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06640" y="126720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dmierzamy cyrklem dowolną długość większą od długości połowy odcinka 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46280" y="2843280"/>
            <a:ext cx="2563920" cy="249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3041640" y="5292720"/>
          <a:ext cx="3036960" cy="31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1640" y="5292720"/>
                    <a:ext cx="303696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YMETRALNA ODCIN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06640" y="1114920"/>
            <a:ext cx="73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bijamy nóżkę cyrkla w początek odcinka (punkt A) i kreślimy łuki nad i pod odcinkiem AB. To samo robimy wbijając nóżkę cyrkla w koniec odcinka (punkt 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46280" y="2843280"/>
            <a:ext cx="2563920" cy="249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3041640" y="5292720"/>
          <a:ext cx="3036960" cy="31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1640" y="5292720"/>
                    <a:ext cx="303696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 flipH="1">
            <a:off x="3987720" y="2798640"/>
            <a:ext cx="256392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YMETRALNA ODCIN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06640" y="126720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ysujemy prostą przechodzącą przez punkty przecięcia łuków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trzymana prosta jest symetralną odcinka AB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997360" y="2754360"/>
          <a:ext cx="3036600" cy="32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7360" y="2754360"/>
                    <a:ext cx="303660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527720" y="2168640"/>
            <a:ext cx="0" cy="427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16280" y="2259000"/>
            <a:ext cx="15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ymetral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25T01:49:05Z</dcterms:modified>
  <cp:revision>145</cp:revision>
  <dc:subject/>
  <dc:title>Slajd 1</dc:title>
</cp:coreProperties>
</file>